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8C6-4BB4-4A0D-9EAD-FB594A4C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697-2E80-4596-8778-8899313A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69D-B90D-4933-AE09-1681577E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70F-D3E1-499C-9E2C-577166C6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851-F19E-4479-90C8-E66D878A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4F4-7656-4F7E-9678-08CF269B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C3E-774D-4013-A6B3-C9AB44F4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978-1F04-4EA5-80F4-7C0E2176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43F-3142-483C-9860-4E311A56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DD4-35A3-4899-B696-29259F32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108-1DFE-457C-A48B-ED55F2BD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7B9-C268-4F1F-9537-4EAC2520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CEE6-A401-4721-86A7-6314142EA563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ding Through th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Diagram 18"/>
          <p:cNvGrpSpPr/>
          <p:nvPr/>
        </p:nvGrpSpPr>
        <p:grpSpPr>
          <a:xfrm>
            <a:off x="876960" y="1029600"/>
            <a:ext cx="7299000" cy="5120280"/>
            <a:chOff x="876960" y="1029600"/>
            <a:chExt cx="7299000" cy="5120280"/>
          </a:xfrm>
        </p:grpSpPr>
        <p:sp>
          <p:nvSpPr>
            <p:cNvPr id="119" name="_s1028"/>
            <p:cNvSpPr/>
            <p:nvPr/>
          </p:nvSpPr>
          <p:spPr>
            <a:xfrm>
              <a:off x="3715560" y="1461960"/>
              <a:ext cx="4460400" cy="468792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_s1029"/>
            <p:cNvSpPr/>
            <p:nvPr/>
          </p:nvSpPr>
          <p:spPr>
            <a:xfrm>
              <a:off x="5105160" y="1029600"/>
              <a:ext cx="137556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ooks/Text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_s1030"/>
            <p:cNvSpPr/>
            <p:nvPr/>
          </p:nvSpPr>
          <p:spPr>
            <a:xfrm>
              <a:off x="876960" y="1461960"/>
              <a:ext cx="4594680" cy="46879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_s1031"/>
            <p:cNvSpPr/>
            <p:nvPr/>
          </p:nvSpPr>
          <p:spPr>
            <a:xfrm>
              <a:off x="2619360" y="1029600"/>
              <a:ext cx="11430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 Box 25"/>
          <p:cNvSpPr/>
          <p:nvPr/>
        </p:nvSpPr>
        <p:spPr>
          <a:xfrm>
            <a:off x="1295280" y="2214720"/>
            <a:ext cx="266724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one can publish a Web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 one checks to see if the information is true or fal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re are millions of places to look for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ing the Internet is much qu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narrow down what you’re looking for more eas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Internet uses search eng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3809880" y="2000160"/>
            <a:ext cx="175284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provi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our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are view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millions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5486400" y="2214720"/>
            <a:ext cx="254952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book has to be published by a publishing comp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ditors check and verify the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oking for a book can be more time consu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have to visit a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library uses the Dewey Decimal Syste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28440" y="228600"/>
            <a:ext cx="79102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regular sear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47920" y="12952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90720" y="15238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4200" y="135684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regular search engine, like Google or Yahoo!, searches the Internet based on a given search term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typing “The History of Chocolate” into Google will give you 621,000 “hits” or sites to visit for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the same term into Yahoo!, and you come up with 76,500,000 h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8440" y="228600"/>
            <a:ext cx="79102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etasear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47920" y="12952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990720" y="15238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tasearch is something that has the ability to search several search engines (like Google, Yahoo!, or MSN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actiSearch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www.cactisearch.com) is a metasearch engine that will search Google, Yahoo!, MSN, and Ask.com all at onc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ther Sear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13880" y="1571400"/>
            <a:ext cx="7858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lust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www.clusty.com) is a search engine that groups search results b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ego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Brainbo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www.brainboost.com) is a search engine that allows you to type 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estio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rather than a search te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artO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www.kartoo.com) is a search engine that shows your information 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p forma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mart Sear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13880" y="1857240"/>
            <a:ext cx="785844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 algn="ctr">
              <a:spcBef>
                <a:spcPts val="726"/>
              </a:spcBef>
              <a:buClr>
                <a:srgbClr val="0000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Internet search engines also allow you to use a set of words or symbols to narrow your search.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– when you want to find two words together. For example “chocolate AND history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R – when you can accept a couple of words. For example, “chocolate OR cacao OR coco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(minus sign) – use when you want to exclude a word. For example, “chocolate - recipe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quotations” – use quotation marks when you are searching for an exact phr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3880" y="22860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d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4305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447920" y="12952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90720" y="15238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28760" y="928800"/>
          <a:ext cx="8143920" cy="5500440"/>
        </p:xfrm>
        <a:graphic>
          <a:graphicData uri="http://schemas.openxmlformats.org/drawingml/2006/table">
            <a:tbl>
              <a:tblPr/>
              <a:tblGrid>
                <a:gridCol w="387360"/>
                <a:gridCol w="5613120"/>
                <a:gridCol w="1071720"/>
                <a:gridCol w="1071720"/>
              </a:tblGrid>
              <a:tr h="146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pe Detector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checklist to help surfers begin determining if information found on a website is true or not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ebsi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ustwort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estion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 large companies you know advertise on the si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e there any ‘dead links’, or links to ‘moved pages’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e the site’s authors experts in the subject? (Do they have any credentials or experience around the topic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the site professional (grammar and typing errors are not present or very minimal)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e there links and references to other websites, resources and experts that corroborate this informat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the resource available in another forma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23:37:24Z</dcterms:created>
  <dc:creator>mbourke</dc:creator>
  <dc:description/>
  <dc:language>en-US</dc:language>
  <cp:lastModifiedBy>mbobeff</cp:lastModifiedBy>
  <dcterms:modified xsi:type="dcterms:W3CDTF">2009-07-20T00:48:05Z</dcterms:modified>
  <cp:revision>4</cp:revision>
  <dc:subject/>
  <dc:title>What is a metasearch?</dc:title>
</cp:coreProperties>
</file>